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августа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7E5D-8834-4236-9AF3-75221EEE3F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30D9-F95C-4B0F-AE57-F94BBF76AB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ата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 августа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барь В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ерхний колонтитул 6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4A96-960E-4D38-969E-5539E02B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4C1-5D86-4D07-BFCC-0A1095C3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3665-DB83-4E49-995C-BBC29DDF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EE9-1AD0-4B4E-BC14-C47C0151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C429-03FF-4527-A35F-A1199E47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DED9-970A-4437-A674-9C6A2EF5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D87D-9052-49B8-80C6-453DAF2D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998E-EAD4-4270-BC9C-A5075246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AD81-4EA4-4F4C-B5F9-1CA091CE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1F5D-EEDA-447F-8EA3-442783D7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05D6C-EB40-428D-8951-EB19E8DE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B32-09FD-4846-B175-0D186D29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9074-5173-468F-A358-2A1B8A90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58EF-0CDD-4567-BA39-6B0EF572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BDA0-CE25-48F8-BB13-E8ED0204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D4E9-6EE2-402E-A52A-4AE6D0BB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84B2-E57F-4D77-8323-E9161BC7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A53-FE2F-4058-8F4A-D45F3FCC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269C-BF91-42B2-895C-9553AB19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391-1F53-495F-B5A6-1F471C1E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0A7-3D95-4CB0-8EC3-4A86FB6C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FE5-DE2F-49AB-9034-7393E279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720D-0ACC-45B4-8676-5C7565D6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659-B2E7-4715-A529-BC948EBD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int1234ыярфенш"/>
          <p:cNvPicPr/>
          <p:nvPr/>
        </p:nvPicPr>
        <p:blipFill>
          <a:blip r:embed="rId2"/>
          <a:stretch/>
        </p:blipFill>
        <p:spPr>
          <a:xfrm>
            <a:off x="0" y="0"/>
            <a:ext cx="2335320" cy="179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B05F-003E-48B7-93C5-3E7624E6701D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AA01-02D2-4090-9CAE-6CE5EF8768C4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ortfolio-edu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213000"/>
            <a:ext cx="7632720" cy="2190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Сетевое сообщество педагогов Пермского края как ресурс профессионального рост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4032360" y="5516640"/>
            <a:ext cx="48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аева Татьяна Викторовн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отдела профессионального развития педагогов 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DFA5-52F8-4E8F-855C-4551BF5A836E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640" y="11556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рофстандарт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едагога-библиотекаря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иказ Министерства труда и социальной защиты РФ от 10 января 2017 г. № 10н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«Об утверждении профессионального стандарта </a:t>
            </a: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«Специалист в области воспитания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C676-65E2-4B63-858A-F0D1142B1B7B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82072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6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рофстандарт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едагога-библиотекаря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BFC8-01B3-4AD2-A604-CEE03177CD83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5280" y="1628640"/>
          <a:ext cx="8424720" cy="4608720"/>
        </p:xfrm>
        <a:graphic>
          <a:graphicData uri="http://schemas.openxmlformats.org/drawingml/2006/table">
            <a:tbl>
              <a:tblPr/>
              <a:tblGrid>
                <a:gridCol w="4114800"/>
                <a:gridCol w="43099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общен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в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общен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в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1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ектирование и реализация библиотечно-педагогического обеспечения в образовательных организациях начального общего, основного общего, среднего общего образовани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анирование и осуществление библиотечно-педагогической деятельности в соответствии с требованиями ФГОС общего образова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Цели и задачи сообщества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507520" cy="5472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действие профессиональному развитию работников системы образования Пермского края посредством решения профессиональных затруднений и проблем на основе сетевого взаимодействи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здать единое информационно-методическое пространство сетевого взаимодействия, как отдельных работников образования, так и коллективов образовательных организаций, работающих в инновационном режиме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рганизовать деятельность сетевых объединений для профессионального обсуждения, обмена мнениями и опытом, публикации материалов (разработок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ддержать образовательные инициативы, способствовать распространению успешных педагогических практик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еспечить проведение экспертной оценки методических и других практико-ориентированных материалов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052280"/>
            <a:ext cx="8362800" cy="561636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Название сообщества: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«Сообщество педагогов Пермского края»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бщее описани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Сетевое сообщество педагогических работников Пермского края, зарегистрированных на сетевом ресурсе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www.portfolio-edu.ru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Адрес сайта: </a:t>
            </a:r>
            <a:r>
              <a:rPr b="1" lang="ru-RU" sz="22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educomm.iro.perm.ru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сновные формы сетевого взаимодействия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фессиональные группы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блемные группы, объединенные решением определенной проблемы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фокус-группы, объединенные общим интересом и деятельностью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пецифика: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суждаются актуальные проблемы системы образования Пермского кра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03C1-D9E7-4DCE-B470-38E0986583E1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81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роектный офис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411280" y="1628640"/>
            <a:ext cx="6446880" cy="4680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ераторы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Мальщукова Ирина Вениаминовн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заведующий ЛИБЦ МАОУ Лицей №10 г. Пермь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Шашкина Валентина Николаевн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заведующий БИЦ, педагог - библиотекарь МАОУ «Гимназия» г. Чернушк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D83F-CD10-41E5-B2B0-4EF699EFF5F9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2232000" cy="165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0" y="-12600"/>
            <a:ext cx="2265480" cy="444960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"/>
          <p:cNvSpPr/>
          <p:nvPr/>
        </p:nvSpPr>
        <p:spPr>
          <a:xfrm>
            <a:off x="1008000" y="3500280"/>
            <a:ext cx="1295640" cy="1081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81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роектный офис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65120" y="1268280"/>
            <a:ext cx="6699240" cy="3456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Деятельность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Информационно-методическое сопровождение процессов реализации 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Программы поддержки детского и юношеского чтения в Российской Федерации</a:t>
            </a: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, 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Концепции развития школьных информационно-библиотечных центров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модернизации школьных библиотек в соответствии с </a:t>
            </a: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«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Концепцией развития школьных информационно-библиотечных центров в Пермском крае в 2018-2021 годах»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D874-787D-40DD-842B-49AB7E9C09E5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520" y="4890960"/>
            <a:ext cx="3816360" cy="194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0" y="-12600"/>
            <a:ext cx="2265480" cy="4449600"/>
          </a:xfrm>
          <a:prstGeom prst="rect">
            <a:avLst/>
          </a:prstGeom>
          <a:ln w="0">
            <a:noFill/>
          </a:ln>
        </p:spPr>
      </p:pic>
      <p:sp>
        <p:nvSpPr>
          <p:cNvPr id="117" name="Овал 6"/>
          <p:cNvSpPr/>
          <p:nvPr/>
        </p:nvSpPr>
        <p:spPr>
          <a:xfrm>
            <a:off x="1008000" y="3500280"/>
            <a:ext cx="1295640" cy="1081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280" y="-7920"/>
            <a:ext cx="716436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Организация работы портал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«Сообщество педагогов Пермского края»</a:t>
            </a:r>
            <a:endParaRPr b="1" lang="en-US" sz="2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4920" y="1052640"/>
            <a:ext cx="8497800" cy="41767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онтент сетевых групп структурирован по разделам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Новости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актуальная и полезная информация о событиях в системе образования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Методическая копилка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лощадка для публикаций представляемых материалов, прошедших экспертизу. Материалы в данном разделе размещаются модератором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Документы»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- актуальные нормативно-правовые акты, относящиеся к деятельности сетевой групп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Полезные ссылки»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- ссылки на ресурсы, относящиеся к содержанию деятельности сетевых групп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Форум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обсуждение представленных пользователями материалов, а также ведение дискуссий на заданные модератором и участниками тем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Чат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ереговорная площадк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4000" y="5229360"/>
            <a:ext cx="8569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53:29Z</dcterms:created>
  <dc:creator>Old_School</dc:creator>
  <dc:description/>
  <dc:language>en-US</dc:language>
  <cp:lastModifiedBy>Админ</cp:lastModifiedBy>
  <cp:lastPrinted>2017-08-25T11:48:31Z</cp:lastPrinted>
  <dcterms:modified xsi:type="dcterms:W3CDTF">2019-03-23T06:15:17Z</dcterms:modified>
  <cp:revision>223</cp:revision>
  <dc:subject/>
  <dc:title>Образование без границ</dc:title>
</cp:coreProperties>
</file>